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5D11-EB24-4606-BB45-296E218E14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тр Первый Великий.Русский царь с 1682 г. и император с 1721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оссия получила Азов с прилегающими землями и право свободного плавания по Азовскому мор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здаются новые верфи, растет число железоделательных и меднолитейных заводов на Урале. В Воронеже налаживается отливка корабельных пушек и ядер к н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уверенного выхода к Финскому заливу Петр 1 главные усилия сосредоточил на овладение земель, прилегающих к Ладоге и Неве. После 10-ти дневной осады первой пала крепость Нотебург (Орешек). По выражению Петра 1, сей крепостью «отворялись ворота к морю». Затем была взята крепость Ниеншанц, Расположенная при впадении в Неву реки Охты. Так Петр прорубил окно в Европ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чень быстро вблизи крепости стал застраиваться городской остров – нынешняя Петроградская сторона. Даже через добрую сотню лет после появления Петербурга рождение города казалось невероятным чудом. У финнов сохранилась поэтическая легенда. В ней говорится: «Много людей в старые годы принимались строить город на Невском болоте, но это никому не удавалось: топкое болото поглощало каждый раз постройку. Но вот пришел русский богатырь-волшебник и решил строить город. Построил он один дом – поглотила его трясина. Построил второй и третий – все так же исчезают они в болоте. Рассердился тогда богатырь и придумал хитрое небывалое дело: взял он и сковал на руках вдруг целый город и поставил его на болото. Не смогло оно тогда поглотить богатырский город и держит его до сих пор». Нелегко эта легенда осуществила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конце жизни, осматривая работы на Ладожском канале и довольный их ходом, Петр говорил строителям: «Видим, как Невой ходят к нам суда из Европы; а когда кончим вот этот канал, увидим, как нашей Волгой придут торговать в Петербург и азиаты». Он мечтал, пользуясь речной сетью России, сделать ее торговой и культурной посредницей между двумя мирами, Западом и Востоком, Европой и Аз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видео) Так было положено начало прекрасному городу – северной столице, которую иностранцы называют Второй Венецией и Северной Пальмир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«Люблю тебя, Петра творень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Люблю твой строгий, стройный ви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вы державное течень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ереговой ее гранит…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ак восхваляет этот город великий русский поэт – Александр Сергеевич Пушкин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образования Петра 1 были ярким примером радикальных реформ, проведенных государством без поддержки и даже при сопротивлении широких слоев об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олько такое государство, по мысли Петра, могло стать инструментом решительных преобразований, цель которых – превратить Россию в великую Европейскую державу. Этой цели Петр достиг и потому вошел в историю как великий реформато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итоге административных преобразований в России было завершено оформление абсолютной монарх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 третий век спорят о Петре люди, сталкиваются мнения. Пушкин, Достоевский, Лев Толстой. Ключевский, Блок… Мнения крайние, взаимоисключающие. И те, и другие могут подтвердить свою правоту фактами. Но даже не то интересно, что говорили и говорят об одном человеке: важнее то, что о нем никогда не говорят безразлично. Таков уж был первый император российский, таково было его время. Перелом в истории России, совершившийся в его правление, определил путь нашей страны на много лет впере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сле смерти его старшего брата, царя Федора Алексеевича, обостряется борьба между двумя боярскими кланами – Милославскими и Нарышкиными. 27 апреля толпа, собравшаяся в кремле выкрикивает царем Сначала Петра в обход своего брата, а спустя месяц та же стрелецкая толпа, настроенная против родственников его матери сестрой Петра , Софьей, подхватывает на копья бояр Матвеева и Долгорукого. Петр становится жертвой кровавой расправы. Партия Нарышкиных была отстранена от участия в государственных делах; Петр с матерью поселился в селе Преображенском. С 1683 г. никем не руководящий он начал здесь продолжительную игру, какую сам себе устроил, и которая стала для него школой самообразования. Петр набирает из своих дворовых людей две роты, которые со временем развились в два батальона, человек по триста в каждом. Они получили название потешных. Постепенно военные забавы приняли нешуточный масштаб, и это стало вызывать беспокойство Софь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ночь на 8 августа 1689 г. Петр был разбужен в Преображенском стрельцами, которые сообщили ему о грозящей опасности со стороны Софьи. Царь бежал в Троице Сергиеву лавру. Монастырь дал защиту молодому царю. Так же как и семь лет назад в Лавре пересидели Москву. Брат Петра, Иван, правил только номинально. Фактически вся власть перешла к Петру и Нарышкиным. На первых порах Петр оставил власть своей матери, а сам проводил время в военных забавах В связи с расширением морских забав Петр дважды совершает путешествие на Белое море. В 1694 г. умерла мать Петра, и ему самому пришлось вступить в управление государство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тр был силен и трудолюбив. Наверняка многие слышали сказку «Петр и кузнец», в которой еще больше подтверждается его могущество.( сказка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сли Петр не спал, не ехал, не пировал или не осматривал чего-нибудь, он непременно что-нибудь строил. С его рук не сходили мозоли. Успехи в ремесле поселили в нем уверенность в ловкости своей руки: он считал себя и опытным хирургом и хорошим зубным врачом. Петр отличался отменным аппетитом. Современники говорят, что он мог есть всегда и везд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го семья жила скромно. Жена и царевны одевались бедно, в роскошных нарядах появлялись лишь на праздниках. Двор русского царя был самым малочисленным в Европе. Ограничив себя и своих близких во многом, Петр все силы и энергию отдавал служению отечеству. Того же он требовал и от подчинен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стройка кораблей велась под Москвой в селе Преображенском, в Воронеже, Козлове, Добром, Сокольске. Особенно большое строительство разворачивалось в Воронеже, где было создано Адмиралтей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88E-EA8E-4C91-9C96-2731591B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3B5-076D-43F8-BBAA-E1989486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73E-A983-4EA5-B8D5-EE2B51D9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94B-BE3E-4E3A-AF60-CD115369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A106-915B-4F70-8B92-49FC0962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F215-7FE3-4DB6-9AEA-0BD5D74C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350A-F7AE-4328-BDE5-B3EF0AB4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50E0-2ECD-49AB-85BA-3DEDDB39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E1D4-1E80-4A08-BF42-CF3998DC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16B1-FBF2-4C27-BE0A-C73B8FD7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9711-7DA1-4756-B7B0-479759A0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F82-66ED-4D07-89AE-1C9B9C6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4231-C338-4A95-80F6-34C1A3B0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CFA2-2457-4AFE-9B2B-5FE322FB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5987-D975-4EDE-A3D5-44A9F9A8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010C-0ACD-486B-ADB5-EAD3994B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B63D-8D53-4B9F-8D03-EF36D8E1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9D3-22D5-49D9-B135-77A9E23C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F7C-17C5-4930-B503-270BEEF6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2DB-B0FA-4448-8F2B-9EA873EB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DD2-8660-41D8-80C5-6224DDF5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503-D37C-4728-9340-3F093D6B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282-1C73-4E35-8002-AAAB6A13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998-A3BD-4804-9B81-C6AE2796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A815-8935-42C5-BEC3-581380E46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6FCA-77AE-4CDA-98B6-97ECC2CB4A3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ferizm.ru/" TargetMode="External"/><Relationship Id="rId2" Type="http://schemas.openxmlformats.org/officeDocument/2006/relationships/hyperlink" Target="http://www.rambler.r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00"/>
                </a:solidFill>
                <a:latin typeface="Monotype Corsiva"/>
              </a:rPr>
              <a:t>Петр 1 Великий</a:t>
            </a:r>
            <a:endParaRPr b="0" lang="en-US" sz="9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97320" y="2133720"/>
            <a:ext cx="3537000" cy="433548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76520" y="402588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лодой флот России получил боевое крещение и наглядно продемонстрировал свою действенность. Взятие Азова явилось первой крупной победой вновь создаваемых регулярных армий и флота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Взятие Азов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858000" cy="236232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00200" y="1181160"/>
            <a:ext cx="32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(30) октября 1696 г. царь Петр 1 «указал», а дума «приговорила» : «Морским судам быть» - государственный акт, официально положивший начало созданию регулярного флота. С тех пор эта дата отмечается как день рождения Российского военного ф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43600" y="1079640"/>
            <a:ext cx="1905120" cy="265428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638680" y="4443480"/>
            <a:ext cx="2514600" cy="172872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«Морским судам быть»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Основание города на Нев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121932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мая 1703 г. в устье реки Невы, на Заячьем острове, Петр первый заложил крепость, названную Петропавловской, и портовый город Санкт-Петербур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6400800" cy="334944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-228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Строительство Петербург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95256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тербург – первый город России, который чуть ли не с основания стал развиваться по заранее разработанному плану. Указом Петра в 1703 г. была создана «Канцелярия от строений», руководившая всеми работами, однако фактически возглавлял все сам Пет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3889440" cy="421488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-27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00"/>
                </a:solidFill>
                <a:latin typeface="Monotype Corsiva"/>
              </a:rPr>
              <a:t>Вторая Венеция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836640"/>
            <a:ext cx="705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конце жизни, осматривая работы на Ладожском канале и довольный их ходом, Петр говорил строителям: «Видим, как Невой ходят к нам суда из Европы; а когда кончим вот этот канал, увидим, как нашей Волгой придут торговать в Петербург и азиаты». Он мечтал, пользуясь речной сетью России, сделать ее торговой и культурной посредницей между двумя мирами, Западом и Востоком, Европой и Ази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771640" y="3710160"/>
            <a:ext cx="4680000" cy="295884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Заключени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1409760"/>
            <a:ext cx="2666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исторической литературе существуют разные оценки деятельности Петра 1. Однако большинство исследователей считают, что его реформы имели выдающееся значение в истории Росс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776840" y="1447920"/>
            <a:ext cx="3681360" cy="474192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Модель государств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1447920"/>
            <a:ext cx="304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деалом государственного устройства для Петра 1 было «регулярное государство», модель, подобная кораблю, где капитан-царь, его поданные-офицеры и матросы, действующие по морскому уста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77960" y="1371600"/>
            <a:ext cx="3198960" cy="464832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Какие же конкретные преобразования Петра 1 были проведены в период его правления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711г. вместо боярской думы был учрежден сен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717г.-1718г. проведена реформа центральных учрежд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721г. В результате церковной реформы должность патриарха была упразднена, во главе церкви – Син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722г. - указ о престолонаследии, император сам назначал наслед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9880" y="517680"/>
            <a:ext cx="533412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Monotype Corsiva"/>
              </a:rPr>
              <a:t>И даже многие просчеты в реформах, которыми Петр славен не меньше, чем победами своими, не могут умалить в глазах наших историческую значимость этого, без сомнения, ВЕЛИКОГО челове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00"/>
                </a:solidFill>
                <a:latin typeface="Monotype Corsiva"/>
              </a:rPr>
              <a:t>Список источников  информации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Н. Толстой «Петр Первый» 198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google.ru/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ческие и текстовые объек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О. Ключевский «Исторические портреты» 199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С. Пушкин – Поэмы (том второй) 1986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ая Энциклопедия Кирилла и Мефодия – 200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www.aferizm.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текстовые объек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www.rambler.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текстовые объек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то из личного фотоальб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8229600" y="60199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11882" y="3837"/>
                </a:moveTo>
                <a:lnTo>
                  <a:pt x="14458" y="6448"/>
                </a:lnTo>
                <a:lnTo>
                  <a:pt x="14458" y="4707"/>
                </a:lnTo>
                <a:lnTo>
                  <a:pt x="16233" y="4707"/>
                </a:lnTo>
                <a:lnTo>
                  <a:pt x="16233" y="8224"/>
                </a:lnTo>
                <a:lnTo>
                  <a:pt x="18844" y="10800"/>
                </a:lnTo>
                <a:lnTo>
                  <a:pt x="17191" y="10800"/>
                </a:lnTo>
                <a:lnTo>
                  <a:pt x="17191" y="17989"/>
                </a:lnTo>
                <a:lnTo>
                  <a:pt x="6572" y="17989"/>
                </a:lnTo>
                <a:lnTo>
                  <a:pt x="6572" y="10800"/>
                </a:lnTo>
                <a:lnTo>
                  <a:pt x="4919" y="10800"/>
                </a:lnTo>
                <a:close/>
              </a:path>
              <a:path fill="darkenLess" w="23763" h="21600">
                <a:moveTo>
                  <a:pt x="14458" y="6448"/>
                </a:moveTo>
                <a:lnTo>
                  <a:pt x="14458" y="4707"/>
                </a:lnTo>
                <a:lnTo>
                  <a:pt x="16233" y="4707"/>
                </a:lnTo>
                <a:lnTo>
                  <a:pt x="16233" y="8224"/>
                </a:lnTo>
                <a:close/>
              </a:path>
              <a:path fill="darkenLess" w="23763" h="21600">
                <a:moveTo>
                  <a:pt x="10959" y="14299"/>
                </a:moveTo>
                <a:lnTo>
                  <a:pt x="12804" y="14299"/>
                </a:lnTo>
                <a:lnTo>
                  <a:pt x="12804" y="17989"/>
                </a:lnTo>
                <a:lnTo>
                  <a:pt x="17191" y="17989"/>
                </a:lnTo>
                <a:lnTo>
                  <a:pt x="17191" y="10800"/>
                </a:lnTo>
                <a:lnTo>
                  <a:pt x="6572" y="10800"/>
                </a:lnTo>
                <a:lnTo>
                  <a:pt x="6572" y="17989"/>
                </a:lnTo>
                <a:lnTo>
                  <a:pt x="10959" y="17989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838080"/>
            <a:ext cx="33526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00"/>
                </a:solidFill>
                <a:latin typeface="Monotype Corsiva"/>
              </a:rPr>
              <a:t>Показать влияние правления Петра 1 и его реформ на дальнейшее развитие Российского государств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29200" y="1446120"/>
            <a:ext cx="3537000" cy="457380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00"/>
                </a:solidFill>
                <a:latin typeface="Monotype Corsiva"/>
              </a:rPr>
              <a:t>Цель: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Слайд об автор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у выполни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танина Анастасия Серге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еница 11 класса «В» СОШ №1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. Сергиев Пос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уководитель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лашова Елена Леонид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91440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Познаем в Петре мужа необыкновенного, название великого заслужившего правильно»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адищ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66688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Петербург основан на слезах и трупах»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арамз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41972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Петру великому мало конной статуи на Исаакиевской площади: алтари должно воздвигнуть ему на всех площадях и улицах великого царства русского»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3" action="ppaction://hlinksldjump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Белин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371600" y="2133720"/>
            <a:ext cx="1496880" cy="212724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-152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Вступлени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Детство Петра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69880" y="1523880"/>
            <a:ext cx="3635640" cy="449604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181480" y="1143000"/>
            <a:ext cx="4038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тр родился в Москве, в Кремле, 30 мая 1672г. от второго брака царя Алексея Михайловича с Натальей Кирилловной Нарышкиной. Петр был живым и красивым мальчиком, смотрел на всех живо и самоуверенно, ему не сиделось на мес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3733920" cy="476712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95280" y="1447920"/>
            <a:ext cx="3818160" cy="480060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Бегство в Троицу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4800600" cy="289548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219320" y="388620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Неприступные стены монастырей во все времена служили надежной защитой от опасности. В тревожные времена за ними могли укрыться не только цари, но и посадский люд, крестьяне. В начале 12 в. Троицкий монастырь выдержал 16-ти месячную осаду польско – литовских войск. Принял монастырь и молодого цар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»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(1)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Наружность, привычки, образ жизни Петра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1533600"/>
            <a:ext cx="3238560" cy="463860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5334120" y="233676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л он без малого трех аршин ростом, целой головой выше любой толпы. От природы он был силач: постоянное обращение с молотком и топором еще больше развило его мускульную сил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95760" y="457200"/>
            <a:ext cx="3495960" cy="571500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371600" y="1557360"/>
            <a:ext cx="38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Но выше всего он ставил ремесло корабельное. Современники считали его лучшим корабельным мастером России. Из него, уроженца континентальной Москвы, вышел истинный моряк, которому морской воздух нужен был, как рыбе вода»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(1)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55840" y="1143000"/>
            <a:ext cx="3268440" cy="457200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4952880" y="990720"/>
            <a:ext cx="396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Роскоши Петр не выносил…Когда Екатерина развернула перед ним великолепный наряд, приготовленный для коронации костюм, он рассердился. Схватил расшитое серебром платье, встряхнул и, указав на посыпавшиеся блестки, сказал: «Если их подмести, хватит на жалование гренадеру»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Monotype Corsiva"/>
              </a:rPr>
              <a:t>Создание флот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319480" cy="312408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114800" y="106668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йти на берега Черного и Балтийского морей было для России исторической необходим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4419720"/>
            <a:ext cx="426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о за несколько месяцев, к весне 1696 г., был создан Азовский фл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92200" y="1009800"/>
            <a:ext cx="2317680" cy="3028680"/>
          </a:xfrm>
          <a:prstGeom prst="rect">
            <a:avLst/>
          </a:prstGeom>
          <a:ln w="88920">
            <a:solidFill>
              <a:srgbClr val="800000"/>
            </a:solidFill>
            <a:miter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534520" y="63244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1295280" y="6324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99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11:14:34Z</dcterms:created>
  <dc:creator>ADMIN</dc:creator>
  <dc:description/>
  <dc:language>en-US</dc:language>
  <cp:lastModifiedBy>1</cp:lastModifiedBy>
  <dcterms:modified xsi:type="dcterms:W3CDTF">2009-01-26T19:55:14Z</dcterms:modified>
  <cp:revision>20</cp:revision>
  <dc:subject/>
  <dc:title>Петр 1 Великий</dc:title>
</cp:coreProperties>
</file>